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C9F-2031-4772-ABC9-47212397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7F1-9689-40E4-90DF-3CEA43F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B53-2392-4546-AD29-FB265AFB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C82-64CF-4C0D-8EBC-04D43535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7ED8-4533-4908-ADD7-A2869FD9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71CD-5C67-4C09-8C56-C1344EDE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2576-B7F1-4838-870F-358DB17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2C94-994A-40AB-B7F1-E058DD1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DB23-17F9-46B6-B118-3EB8A50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13EC-99BB-453B-9BBA-C634708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AAD4-69B1-41FD-8A26-E1CBF05F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962-9DA0-4405-81F4-6C963F8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4CA0-9165-4A20-BC19-A5D548A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E931-F755-40F8-B9F1-CC33E1A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8D31-5586-472C-B7A4-611B6A78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DAFB-6457-4F4A-B0F6-40622BA9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CBDA-5683-4DF9-9E22-260E19E7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2BE-3B2F-4BDF-94C3-DE81162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F99-F203-4C75-96D0-D4BF5F8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03F-9259-4E1C-869C-EE6101B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1F4-1A3D-4686-AC6F-ABC3D01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ADA-4B5D-4BCC-8420-31B3595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E61-01F3-402F-831E-6D5A65C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20F-65D7-4EB4-B335-39B3949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87C-C8D6-455D-B4A0-4FFC39325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F435-F605-4C3C-B2E1-AA6A5ACBE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ff"/>
                </a:solidFill>
                <a:uFillTx/>
                <a:latin typeface="Baskerville Old Face"/>
              </a:rPr>
              <a:t>How successful was the League in the 1920’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Succe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50752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Aaland Islands, 19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Upper Silesia, 19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Economic collapse in Austria &amp; Hungary, 192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Greek-Bulgarian dispute, 19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Fail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581360"/>
            <a:ext cx="8507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Vilna, 19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Corfu, 19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ffff"/>
                </a:solidFill>
                <a:uFillTx/>
                <a:latin typeface="Baskerville Old Face"/>
              </a:rPr>
              <a:t>The Success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Aaland Islands, 192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4653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Austria and Hungary were on the brink of bankruptcy due to reparations and weak economies after the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The league arranged international loans and helped them manage their fin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They were able to begin economic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55736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Dispute over possession of the Aaland Islands between Sweden and 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Took it to the league, and they decided Finland should have the i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Both countries accepted the league’s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6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Baskerville Old Face"/>
              </a:rPr>
              <a:t>Economic Collapse, Austria &amp; Hungary, 192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Upper Silesia, 192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A plebiscite area with large numbers of Germans and Poles living 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Voted to rejoin Germany by 700,000 to 42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League split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askerville Old Face"/>
              </a:rPr>
              <a:t>Germany got most of the land &amp;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askerville Old Face"/>
              </a:rPr>
              <a:t>Poland got most of the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askerville Old Face"/>
              </a:rPr>
              <a:t>Germany bitter about this, but both countries accepted the decision (messy compromi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The Greek-Bulgarian Dispute 19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66884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Greek-Bulgarian border the source of disp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After some violent incidents, Greece invaded Bulg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League condemned Greece’s actions and pressurised them to with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They did 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ffff"/>
                </a:solidFill>
                <a:uFillTx/>
                <a:latin typeface="Baskerville Old Face"/>
              </a:rPr>
              <a:t>The Failur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Vilna, 19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Vilna was part of the state of Lithuania, but had a mainly Polish population. Both countries want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Was occupied by Poland during the Russo-Polish war, and troops later refused to le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The league was reluctant to get involved as it would require armed forces, and Poland was seen as a useful ally against Germany and the Soviet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In the end, the League confirmed Poland’s occupation of Vil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Showed League as weak and basically us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Corfu, 192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Italian surveyors working on the Greek side of the Greek-Albanian border were 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Mussolini demanded comp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When it didn’t come, he bombarded and occupied Corf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League wanted to condemn Italy, but major powers wouldn’t all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Instead they pressurised Greece to accept Italy’s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Only when they did, did Mussolini with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Showed League’s weakness in the face of a strong member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30:43Z</dcterms:created>
  <dc:creator>Home</dc:creator>
  <dc:description/>
  <dc:language>en-US</dc:language>
  <cp:lastModifiedBy>Home</cp:lastModifiedBy>
  <dcterms:modified xsi:type="dcterms:W3CDTF">2008-05-31T12:06:40Z</dcterms:modified>
  <cp:revision>4</cp:revision>
  <dc:subject/>
  <dc:title>How successful was the League in the 1920’s?</dc:title>
</cp:coreProperties>
</file>